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8434F-7DB5-4931-B9FF-D3ABB1D30E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BCE29-AC36-4C25-AE8F-B896A24C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6B4D6-54BB-4F2F-B0FC-0BB2D005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A1D02-4B35-4237-9A60-AFD0C1920A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00240-5B0F-4036-8907-5A00769E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8794E-CE56-44B7-B3A1-EB7EEB68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C5EC3-321F-4F60-A8F0-554E60C4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6D276-5E24-4FC4-84E9-2D3752BED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47ACD-3CCF-4A38-9F5A-A8C25B878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ECEDB-1F73-4AEE-93F7-250C93AD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BF146-703E-4A3F-91AC-20B38E32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BD744-AE82-47A3-866A-B2F63855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0" cy="1440"/>
          </a:xfr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EB829056-568E-4164-8525-696630F31017}" type="datetime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8DCBBAE2-DB43-4743-AD8E-50F9AF4640DF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3" name=""/>
          <p:cNvSpPr/>
          <p:nvPr/>
        </p:nvSpPr>
        <p:spPr>
          <a:xfrm>
            <a:off x="95400" y="3809880"/>
            <a:ext cx="5715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Introduction to</a:t>
            </a:r>
            <a:br>
              <a:rPr sz="2800"/>
            </a:br>
            <a:r>
              <a:rPr b="1" lang="fr-FR" sz="6000" spc="-1" strike="noStrike">
                <a:solidFill>
                  <a:srgbClr val="000000"/>
                </a:solidFill>
                <a:latin typeface="Calibri"/>
              </a:rPr>
              <a:t>PHPPower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5" name=""/>
          <p:cNvSpPr/>
          <p:nvPr/>
        </p:nvSpPr>
        <p:spPr>
          <a:xfrm>
            <a:off x="95400" y="476280"/>
            <a:ext cx="8858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What is PHPPowerPoin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5400" y="1238400"/>
            <a:ext cx="88581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 class libr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Written in PH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Representing a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Supports writing to different file form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8" name=""/>
          <p:cNvSpPr/>
          <p:nvPr/>
        </p:nvSpPr>
        <p:spPr>
          <a:xfrm>
            <a:off x="95400" y="476280"/>
            <a:ext cx="8858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What's the poin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5400" y="1238400"/>
            <a:ext cx="8858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Generate slide de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Represent business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Show a family slide s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Export these to different form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PowerPoint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Serializ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... (more to come)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1" name=""/>
          <p:cNvSpPr/>
          <p:nvPr/>
        </p:nvSpPr>
        <p:spPr>
          <a:xfrm>
            <a:off x="95400" y="476280"/>
            <a:ext cx="8858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Need more info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5400" y="1238400"/>
            <a:ext cx="8858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Check the project site on GitHub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