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0C19D-1743-4455-90D9-1094E7576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AA427-4C87-45E4-9D4B-63C9464C3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F13A0-5258-47BB-9378-264838D13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26B22-2506-4C24-9EED-A8B771750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A4FBA-5BF2-49A5-9936-E3DD8A36F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8AEF0-4410-4E6F-AEFB-527F0601D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BABA8-3B42-4F1E-ACF7-273D69887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F3630-22E1-41B7-B25B-1B27A3816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FDEAA-B030-40F3-82E9-4A969980F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A640F-183B-4AA2-80FC-E09069221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F3F36-9658-4036-8471-DF8CBB3A8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A7F73-C9AC-42F8-9DCF-97BD08DC4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8ED47-84F8-47D5-A0AA-0A86B61118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02T08:56:59Z</dcterms:created>
  <dc:creator>liaofei</dc:creator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2424</vt:lpwstr>
  </property>
</Properties>
</file>