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B8BC2-C00B-4618-AA10-408595B9A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D323F-FA7A-425E-8D58-069861F2A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DCDBD-B2EC-47F3-9422-D6274E423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FFE82-8169-4678-85D2-F148BC085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62A39-0FF1-4802-9C0F-C5DCF4627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FD9CC-B8F6-4694-B1AB-1EE14C906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71055-E22D-4838-84B2-656CAD12F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730F2-FD8F-41E1-B8BB-5ED0D8046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D67B1-F672-4AB4-A969-F8E69C26C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97E04-A81A-4CB2-9B32-B6C5A5187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50C4B-1A01-465F-93B6-C584FE0AF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455A4-74E4-4ECC-806F-1299CDC78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0F040-F47B-4C80-8199-ABAE60FCB2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02T08:56:59Z</dcterms:created>
  <dc:creator>liaofei</dc:creator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424</vt:lpwstr>
  </property>
</Properties>
</file>